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EE3-5B3A-45D2-A0B4-F34864A6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EB5-4D2C-43E0-BB68-E4D5651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844-2E7E-4226-9D65-2B1AAEE3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083-0BC9-4693-AF6E-FA615B93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C6E-E2C6-4E00-ADBC-6D39D85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1B8-872A-45B7-8030-B4B9649C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B5E-8A45-4A0C-890F-58A042E1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E98-A6E8-4C05-9E77-0B354D6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BA9-ED6D-4BEF-A358-53A26F05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B52-8D80-41DB-A93B-DEA5B26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7CA-87E3-403B-B45E-1BF06C3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DEF-EE1D-4A40-A0A2-B9A5A599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2EA-3DB5-4DE9-BECD-8DFE162413F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8:08:50Z</dcterms:created>
  <dc:creator>Grupo Editorial</dc:creator>
  <dc:description/>
  <dc:language>en-US</dc:language>
  <cp:lastModifiedBy>TORRES</cp:lastModifiedBy>
  <dcterms:modified xsi:type="dcterms:W3CDTF">2010-12-19T21:45:58Z</dcterms:modified>
  <cp:revision>2</cp:revision>
  <dc:subject/>
  <dc:title>Sin título de diapositiva</dc:title>
</cp:coreProperties>
</file>